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A935-0AEE-48AE-8F46-813616080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atients had to travel to more than 4 separate locations on the same day in order to receive all their care for a particular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he worse-case example was cardiology, which had services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14 separate l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atients had to travel to more than 4 separate locations on the same day in order to receive all their care for a particular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he worse-case example was cardiology, which had services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14 separate l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atients had to travel to more than 4 separate locations on the same day in order to receive all their care for a particular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atients had to travel to more than 4 separate locations on the same day in order to receive all their care for a particular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because the program typically consists of a large number of examination rooms, physician offices, etc whose sizes and attributes can be standardiz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consists of arranging highly repetitive room types in a logical patterns that maximiz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must also include strategies for accommodating non-repetitive program elements and integrating planning of column grids and building support elements (eg. Mechanical shafts, electrical closet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(Opened in June of 200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30D-90F8-4905-A719-249AF4E5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EF7-021E-472D-905E-3694D357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42A-F2EB-4ECF-BDA3-870ED634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063-31F3-4E29-8116-4064240A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7DF2-F6C2-4A67-8192-8932C1BC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F6AA-A584-4A56-BCF5-A75D59FD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719C-C487-4ED6-8582-E2412C41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72A5-E1D5-408E-9508-9BABFC5C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35E1-9460-4781-B7AA-C7F1A2BE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5611-AE30-4211-8177-2572B58A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8387-FD99-4043-AD6D-1FF4DB04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929-8855-4C12-A4B3-4067BF16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341E-93E2-43E4-ADB9-81DE0D70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F41E-6E5D-4F12-8276-CA1216AA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0453-D3DD-4306-B429-D9AC86D8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61F4-F6C7-4844-AEDE-AB1E2475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E007-4D5A-4D99-BE10-A29BACCF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290-A5D8-4CBA-BE7D-37095065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7DB-EFE3-4509-AB29-4D30A61A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9067-2E68-4720-AE7C-666284DB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D83-B0D7-4791-A861-1FCC76C3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CDD-252E-4601-BEE4-97C69C49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E68-E344-4EEB-8BBF-A279AAF6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753-8C29-4A4A-9CE3-99B22D93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3B62-C13A-4676-B99A-4938AE4065DE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7852-A3D6-4A03-9724-CC4F90AB96B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533240"/>
            <a:ext cx="64767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go Brainwa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ign of Pediatric Health Center of the Fu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am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ego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ndee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ngseon Cho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vanavarj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~ # 2 - Patient Flow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371600"/>
            <a:ext cx="792000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~ # 2 - Patient Flow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According to MGH (Massachusetts General Hospital), on an average, patients had to travel to more tha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4 separate loc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 in order to receive all their care for a particular diseas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This created a significant amount of frustration for patients, substantial foot traffic and inefficiency within the clinical depart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1680" y="5867280"/>
            <a:ext cx="661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  <a:ea typeface="굴림"/>
              </a:rPr>
              <a:t>Pauly (2005) Planning a Large Ambulatory Care Center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  <a:ea typeface="굴림"/>
              </a:rPr>
              <a:t>at an Academic Medical Center,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  <a:ea typeface="굴림"/>
              </a:rPr>
              <a:t>J Ambulatory Care Manag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~ # 2 - Patient Flow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nalysis of the patient flow through the hospital depending on the disease typ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pping 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tient flow on the hospital floor to a physical pa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bjective is to determine the optimized p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ing of the different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ing the hospital flo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~ # 2 - Patient Flow – Deliverab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19720" y="152352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flow diagram to map the traffic for the different units and decide which units can b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-loca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hospital model with the floors and a floor plan defining the patient mov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existing floor layout with our proposed layou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7560" y="1968480"/>
            <a:ext cx="3759840" cy="3342240"/>
            <a:chOff x="367560" y="1968480"/>
            <a:chExt cx="3759840" cy="3342240"/>
          </a:xfrm>
        </p:grpSpPr>
        <p:sp>
          <p:nvSpPr>
            <p:cNvPr id="137" name=""/>
            <p:cNvSpPr/>
            <p:nvPr/>
          </p:nvSpPr>
          <p:spPr>
            <a:xfrm>
              <a:off x="1760400" y="1968480"/>
              <a:ext cx="696240" cy="27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Patient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39720" y="2525760"/>
              <a:ext cx="1113840" cy="27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Registration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21080" y="3083040"/>
              <a:ext cx="974520" cy="27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Diagnosis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21080" y="3918600"/>
              <a:ext cx="974520" cy="27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Outpatient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7560" y="3917880"/>
              <a:ext cx="835200" cy="27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Inpatient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13560" y="3917880"/>
              <a:ext cx="1113840" cy="27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Critical Car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90560" y="4475160"/>
              <a:ext cx="835560" cy="8355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29880" y="4753440"/>
              <a:ext cx="55692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MRI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56640" y="4475160"/>
              <a:ext cx="55692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42440" y="4475160"/>
              <a:ext cx="41760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96640" y="2246400"/>
              <a:ext cx="720" cy="2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08520" y="2803680"/>
              <a:ext cx="360" cy="2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08520" y="4196520"/>
              <a:ext cx="36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5520" y="3639240"/>
              <a:ext cx="2784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08520" y="3639240"/>
              <a:ext cx="36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58240" y="3627720"/>
              <a:ext cx="72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520" y="3639240"/>
              <a:ext cx="36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38000" y="4892760"/>
              <a:ext cx="4176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156680" y="4892760"/>
              <a:ext cx="556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08520" y="3360600"/>
              <a:ext cx="360" cy="2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</a:rPr>
              <a:t>Brain~~~3 – Signage &amp; Way find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9880" y="190512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echnological look to path finding and sign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iosks at the entrance with 3D floor pla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PS enabled hand held t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tination specific RFID audio Turn Right, Take Elevator, Sto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2844720" cy="28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0" t="5329" r="0" b="9335"/>
          <a:stretch/>
        </p:blipFill>
        <p:spPr>
          <a:xfrm>
            <a:off x="228600" y="4378320"/>
            <a:ext cx="2857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</a:rPr>
              <a:t>Brain~~~~4 – Future Pediatric Cent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uturistic Pediatric Emergency room where the different medical equipment TALK to each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dia used include - Bluetooth, Wireless Network, Live Streaming Vide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s with Communicable Diseases and Contagious Air-borne disea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~ # 4 – Future Pediatric Cent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Equipment are capable of transmitting signals wirelessly to the server at the nurses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bserving nurse checks the vital signs of the patient and decides if any dosage needs alte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quipment receives feedback and alters the dosage according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eaming Video monitoring of the patient to view the physical condi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ring it Togeth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18399" r="31818" b="43333"/>
          <a:stretch/>
        </p:blipFill>
        <p:spPr>
          <a:xfrm>
            <a:off x="6553080" y="411480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0" t="0" r="24887" b="0"/>
          <a:stretch/>
        </p:blipFill>
        <p:spPr>
          <a:xfrm>
            <a:off x="2962440" y="1752480"/>
            <a:ext cx="3219120" cy="3848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19539" t="0" r="0" b="3968"/>
          <a:stretch/>
        </p:blipFill>
        <p:spPr>
          <a:xfrm>
            <a:off x="6934320" y="1371600"/>
            <a:ext cx="1404720" cy="2514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rcRect l="38006" t="0" r="30501" b="0"/>
          <a:stretch/>
        </p:blipFill>
        <p:spPr>
          <a:xfrm>
            <a:off x="457200" y="1523880"/>
            <a:ext cx="16002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</a:rPr>
              <a:t>Brain~~~~~5 – Video Messaging for Cell Ph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xiety 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llness may cause the patient or their family to not completely recall the doctor’s diagno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atient’s family is not updated on the patient cond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propose to record a video of the patien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octor meet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</a:rPr>
              <a:t>Brain~~~~~5 – Video Messaging for Cell Ph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webcam in the examining room records the patien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octor discussion (on patient’s consent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pplication is developed to send the video as a Multimedia Message to the patient’s mobile ph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octor can also record messages for the patient’s family to communicate patient’s cond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waves~ # 1 to # 5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We chose the team name Lego since it is spatially efficient and offers several possibilities. Our brainwaves are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Universal Design Concepts in the 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 Flo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age &amp; Way fi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ture Pediatric Ce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Messaging with Mobile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</a:rPr>
              <a:t>Brain~~~~~5 – Video Messaging for Cell Ph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23499" t="0" r="26371" b="0"/>
          <a:stretch/>
        </p:blipFill>
        <p:spPr>
          <a:xfrm>
            <a:off x="6705720" y="2286000"/>
            <a:ext cx="2128680" cy="419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rcRect l="6860" t="5426" r="7427" b="14003"/>
          <a:stretch/>
        </p:blipFill>
        <p:spPr>
          <a:xfrm>
            <a:off x="3581280" y="1752480"/>
            <a:ext cx="2667240" cy="2506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288288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 # 1 – Universal Design Concepts in the 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Implementing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Universal Design concep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 in developing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modul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 which can accommodate specific disease types such as 1) Sickle Cell, 2)Asthma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The universal room was defined as the one that could accommodate various case 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- operational and space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- future flexi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60160" y="6095880"/>
            <a:ext cx="70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Saba (2004) Universal Design Concepts in the Emergency Department,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J Ambulatory Care Manag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71600" y="20570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Determine the module size that depends 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existing grid of the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requirements for three specific types of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Design the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20560" y="5891040"/>
            <a:ext cx="70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Saba (2004) Universal Design Concepts in the Emergency Department,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J Ambulatory Care Manag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 # 1 – Universal Design Concepts in the 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9250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</a:rPr>
              <a:t>Brain~ # 1 </a:t>
            </a:r>
            <a:br>
              <a:rPr sz="4200"/>
            </a:b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Case Stud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57800" y="205704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굴림"/>
              </a:rPr>
              <a:t>The Kaiser Permanente Santa Clara Medical Office Building in Califor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굴림"/>
              </a:rPr>
              <a:t>3 modularly planned building blocks are attached to a “U-shaped” single-loaded corrido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굴림"/>
              </a:rPr>
              <a:t>9 X 11 module for both examination rooms and provider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370" t="1877" r="30141" b="6174"/>
          <a:stretch/>
        </p:blipFill>
        <p:spPr>
          <a:xfrm>
            <a:off x="762120" y="2057400"/>
            <a:ext cx="3809880" cy="3733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97080" y="6172200"/>
            <a:ext cx="72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  <a:ea typeface="굴림"/>
              </a:rPr>
              <a:t>Arsenault (2004) Adapting to Change,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  <a:ea typeface="굴림"/>
              </a:rPr>
              <a:t>J Ambulatory Care Manag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 # 1 - Universal Design Concept in the 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20560" y="5891040"/>
            <a:ext cx="70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Saba (2004) Universal Design Concepts in the Emergency Department,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J Ambulatory Care Manag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19320" y="1676520"/>
            <a:ext cx="746748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 # 1 - Universal Design Concep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in the 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20560" y="5891040"/>
            <a:ext cx="70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Saba (2004) Universal Design Concepts in the Emergency Department,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J Ambulatory Care Manag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43000" y="1666800"/>
            <a:ext cx="754380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 # 1 - Universal Design Concept in the 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20560" y="5891040"/>
            <a:ext cx="70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Saba (2004) Universal Design Concepts in the Emergency Department,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J Ambulatory Care Manag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95280" y="2166840"/>
            <a:ext cx="76201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 # 1 - Universal Design Concept in the 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20560" y="5891040"/>
            <a:ext cx="70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Saba (2004) Universal Design Concepts in the Emergency Department,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J Ambulatory Care Manag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752480" y="1600200"/>
            <a:ext cx="56390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9:33:41Z</dcterms:created>
  <dc:creator>labuser</dc:creator>
  <dc:description/>
  <dc:language>en-US</dc:language>
  <cp:lastModifiedBy>gtg977i</cp:lastModifiedBy>
  <dcterms:modified xsi:type="dcterms:W3CDTF">2007-09-25T20:30:29Z</dcterms:modified>
  <cp:revision>65</cp:revision>
  <dc:subject/>
  <dc:title>Lego Brainwaves</dc:title>
</cp:coreProperties>
</file>